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9.pct" ContentType="image/x-pict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10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A2331-7930-4BA4-BA6D-23AFD8C82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141DD-57E3-4FE6-A77A-61308FEB5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018BF-E3D1-4411-B38E-764244357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FE6AC-254C-48A1-8932-77BDB7ADE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E3A0E-440E-4C20-AD93-16FF5ACE1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B365E-31E8-4ECB-9F22-8C3444E46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4966B-6B0B-48B9-93DA-14EF8EE54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F7EDB-F754-4D7A-BB8D-ECF49EBB3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80573-250E-4993-89F4-18703FDEF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32C70-098A-4DE0-86E6-D3F43902C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B99C9-E0F2-421F-B514-946C8750C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7122E-E0B9-4D67-B8A8-B62DA7D3F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54D4A-1E97-48CE-BF70-D85D738D6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05779-5368-419A-9140-1F9A02B4D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3650C-B913-4261-A252-296B20E5D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F83C9-F34D-4A54-AF9C-CE3AA2A82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82873-FE78-4FA0-9699-1C6B915A2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2FABD-986C-4F8F-AFF0-4ABC23150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6C59F-4FDD-40A1-90B5-491EB02FF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60AFA-FF3D-4438-821D-3A0B968FC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B76F7-4946-45BD-B282-E678F6748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41F67-E8B5-4496-A7A5-CF2FDB8BC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CB0A6-1443-4D3F-9576-2E8744883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610AB-67A3-4114-B43D-92B0F16EC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7386C-6DBF-412A-AD7F-3B852C9344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0" descr="plant"/>
          <p:cNvPicPr/>
          <p:nvPr/>
        </p:nvPicPr>
        <p:blipFill>
          <a:blip r:embed="rId3"/>
          <a:stretch/>
        </p:blipFill>
        <p:spPr>
          <a:xfrm>
            <a:off x="5257800" y="2286000"/>
            <a:ext cx="4240080" cy="47466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9DF05-C739-4D14-B3FE-7CCFCE781A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mycaert.com/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ct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560" y="1295280"/>
            <a:ext cx="7086600" cy="1828800"/>
          </a:xfrm>
          <a:prstGeom prst="rect">
            <a:avLst/>
          </a:prstGeom>
          <a:noFill/>
          <a:ln w="0">
            <a:noFill/>
          </a:ln>
          <a:effectLst>
            <a:outerShdw dist="29795" dir="3898986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Explaining a Soil Profil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alculating Percent Slope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4" name="Picture 4" descr="cartlogo_sm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6086520"/>
            <a:ext cx="666720" cy="7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3e2a2"/>
            </a:gs>
            <a:gs pos="100000">
              <a:srgbClr val="00a8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Using Percent Slope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nce slope is calculated, it can be used to determine land use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st determine C valu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eed Z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eed L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3e2a2"/>
            </a:gs>
            <a:gs pos="100000">
              <a:srgbClr val="00a8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Using Percent Slope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Z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factor that is calculated based on rainfall, soil erosion, soil loss, and conservation practic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ould be given to you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factor that considers the slope length and percent slop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You will determine based on a given tab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3e2a2"/>
            </a:gs>
            <a:gs pos="100000">
              <a:srgbClr val="00a8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Using Percent Slope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9144000" cy="41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3e2a2"/>
            </a:gs>
            <a:gs pos="100000">
              <a:srgbClr val="00a8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Using Percent Slope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 is calculated with Z and L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nce you have C, it’s value determines how land can be us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TextBox 5"/>
          <p:cNvSpPr/>
          <p:nvPr/>
        </p:nvSpPr>
        <p:spPr>
          <a:xfrm>
            <a:off x="3994920" y="2590920"/>
            <a:ext cx="474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Z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TextBox 6"/>
          <p:cNvSpPr/>
          <p:nvPr/>
        </p:nvSpPr>
        <p:spPr>
          <a:xfrm>
            <a:off x="3836880" y="3254400"/>
            <a:ext cx="746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LS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Straight Connector 8"/>
          <p:cNvSpPr/>
          <p:nvPr/>
        </p:nvSpPr>
        <p:spPr>
          <a:xfrm>
            <a:off x="3733920" y="3276720"/>
            <a:ext cx="9903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3e2a2"/>
            </a:gs>
            <a:gs pos="100000">
              <a:srgbClr val="00a8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Uses of Land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ventional Tillag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mmon plow that turns slices, lifts, and turns soi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othing left on the surfa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hisel Tillag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dified plow that leaves some residue on the surfa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Zero Tillag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o plowing with very little residue on surfa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3e2a2"/>
            </a:gs>
            <a:gs pos="100000">
              <a:srgbClr val="00a8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Uses of Land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-106200" y="2209680"/>
            <a:ext cx="9783720" cy="373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3e2a2"/>
            </a:gs>
            <a:gs pos="100000">
              <a:srgbClr val="00a8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Soil Color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opsoi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ok at color when we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rker color = more organic matt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rker color = more nutrients (nitrogen and phosphorus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rker color = less runoff and less erosion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3e2a2"/>
            </a:gs>
            <a:gs pos="100000">
              <a:srgbClr val="00a8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Soil Color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ubsoi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right brown or yellow color = lots of air in soi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ood drainag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ay or olive color = lots of water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oor drainag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3e2a2"/>
            </a:gs>
            <a:gs pos="100000">
              <a:srgbClr val="00a8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Soil Color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ometimes there is a gray line between the topsoil and subsoi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ually only found where there is timber and lots of veget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events water movement and root develop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Known as 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horiz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3e2a2"/>
            </a:gs>
            <a:gs pos="100000">
              <a:srgbClr val="00a8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What is a soil profile?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40384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1" i="1" lang="en-US" sz="2800" spc="-1" strike="noStrike">
                <a:solidFill>
                  <a:srgbClr val="000000"/>
                </a:solidFill>
                <a:latin typeface="Verdana"/>
              </a:rPr>
              <a:t>soil profile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s a vertical cross-section of the soil. When exposed, various layers of soil should be apparen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7" name="Picture 30" descr="318"/>
          <p:cNvPicPr/>
          <p:nvPr/>
        </p:nvPicPr>
        <p:blipFill>
          <a:blip r:embed="rId1"/>
          <a:stretch/>
        </p:blipFill>
        <p:spPr>
          <a:xfrm>
            <a:off x="4419720" y="1066680"/>
            <a:ext cx="4441680" cy="492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3e2a2"/>
            </a:gs>
            <a:gs pos="100000">
              <a:srgbClr val="00a8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1920" y="304920"/>
            <a:ext cx="2667240" cy="457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What are the major horizons of a soil profile and how do they differ?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9" name="Picture 6" descr=""/>
          <p:cNvPicPr/>
          <p:nvPr/>
        </p:nvPicPr>
        <p:blipFill>
          <a:blip r:embed="rId1"/>
          <a:stretch/>
        </p:blipFill>
        <p:spPr>
          <a:xfrm>
            <a:off x="3048120" y="0"/>
            <a:ext cx="6095880" cy="687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3e2a2"/>
            </a:gs>
            <a:gs pos="100000">
              <a:srgbClr val="00a8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87631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ajor Horizons of a Soil Profi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9000"/>
          </a:bodyPr>
          <a:p>
            <a:pPr marL="167760" indent="-1677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” horizon is an organic layer composed of partially decayed plant and animal debris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t generally occurs in undisturbed soil such as in a fores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167760" indent="-1677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” horizon is often referred to as </a:t>
            </a:r>
            <a:r>
              <a:rPr b="1" i="1" lang="en-US" sz="2800" spc="-1" strike="noStrike">
                <a:solidFill>
                  <a:srgbClr val="000000"/>
                </a:solidFill>
                <a:latin typeface="Verdana"/>
              </a:rPr>
              <a:t>topsoil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d is the surface layer where organic matter accumulates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419760" indent="-111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A horizon provides the best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nvironment for the growth of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lant roots, microorganisms,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and other lif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1677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Picture 5" descr="327"/>
          <p:cNvPicPr/>
          <p:nvPr/>
        </p:nvPicPr>
        <p:blipFill>
          <a:blip r:embed="rId1"/>
          <a:stretch/>
        </p:blipFill>
        <p:spPr>
          <a:xfrm>
            <a:off x="6629400" y="4343400"/>
            <a:ext cx="2212920" cy="24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3e2a2"/>
            </a:gs>
            <a:gs pos="100000">
              <a:srgbClr val="00a8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87631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ajor Horizons of a Soil Profi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-260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” horizon is referred to as the </a:t>
            </a:r>
            <a:r>
              <a:rPr b="1" i="1" lang="en-US" sz="2800" spc="-1" strike="noStrike">
                <a:solidFill>
                  <a:srgbClr val="000000"/>
                </a:solidFill>
                <a:latin typeface="Verdana"/>
              </a:rPr>
              <a:t>subsoil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64480" indent="-217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B horizon will have less organic matter and more clay than the A horiz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64480" indent="-217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s is where most of the plant roots grow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5" name="Picture 5" descr="350"/>
          <p:cNvPicPr/>
          <p:nvPr/>
        </p:nvPicPr>
        <p:blipFill>
          <a:blip r:embed="rId1"/>
          <a:stretch/>
        </p:blipFill>
        <p:spPr>
          <a:xfrm>
            <a:off x="1143000" y="3479760"/>
            <a:ext cx="675972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3e2a2"/>
            </a:gs>
            <a:gs pos="100000">
              <a:srgbClr val="00a8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87631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ajor Horizons of a Soil Profi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4000"/>
          </a:bodyPr>
          <a:p>
            <a:pPr marL="185040" indent="-185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” horizon is referred to as the </a:t>
            </a:r>
            <a:r>
              <a:rPr b="1" i="1" lang="en-US" sz="2800" spc="-1" strike="noStrike">
                <a:solidFill>
                  <a:srgbClr val="000000"/>
                </a:solidFill>
                <a:latin typeface="Verdana"/>
              </a:rPr>
              <a:t>substratum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01040" indent="-154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t lacks the properties of the A and B horizons since it is influenced less by the soil forming processes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01040" indent="-154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t is usually the parent material of the soil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185040" indent="-185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” horizon is the underlying bedrock, such as limestone, sandstone, or granite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01040" indent="-154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t is found beneath the C horizo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3e2a2"/>
            </a:gs>
            <a:gs pos="100000">
              <a:srgbClr val="00a8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Percent Slope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eed to determine in order to determine use of soi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formation need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ye heigh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od heigh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tance to ro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3e2a2"/>
            </a:gs>
            <a:gs pos="100000">
              <a:srgbClr val="00a8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Percent Slope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2" name="Group 11"/>
          <p:cNvGrpSpPr/>
          <p:nvPr/>
        </p:nvGrpSpPr>
        <p:grpSpPr>
          <a:xfrm>
            <a:off x="1752480" y="2362320"/>
            <a:ext cx="5654520" cy="840600"/>
            <a:chOff x="1752480" y="2362320"/>
            <a:chExt cx="5654520" cy="840600"/>
          </a:xfrm>
        </p:grpSpPr>
        <p:sp>
          <p:nvSpPr>
            <p:cNvPr id="103" name="TextBox 6"/>
            <p:cNvSpPr/>
            <p:nvPr/>
          </p:nvSpPr>
          <p:spPr>
            <a:xfrm>
              <a:off x="2107800" y="2362320"/>
              <a:ext cx="3754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Eye height – Rod height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4" name="TextBox 7"/>
            <p:cNvSpPr/>
            <p:nvPr/>
          </p:nvSpPr>
          <p:spPr>
            <a:xfrm>
              <a:off x="2671200" y="2743200"/>
              <a:ext cx="2504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Distance to rod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5" name="TextBox 8"/>
            <p:cNvSpPr/>
            <p:nvPr/>
          </p:nvSpPr>
          <p:spPr>
            <a:xfrm>
              <a:off x="6423120" y="2514600"/>
              <a:ext cx="98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X 100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6" name="Straight Connector 10"/>
            <p:cNvSpPr/>
            <p:nvPr/>
          </p:nvSpPr>
          <p:spPr>
            <a:xfrm>
              <a:off x="1752480" y="2819520"/>
              <a:ext cx="441972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3e2a2"/>
            </a:gs>
            <a:gs pos="100000">
              <a:srgbClr val="00a8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Percent Slope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0-2%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ery flat, plant with many row crops, little water erosion, but will hold lots of wat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-15%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lant many row crops, soil erosion can increase with increased slop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15-20%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re soil erosion, not good for crops, used mainly for grazing, forests, and recre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4T12:29:18Z</dcterms:created>
  <dc:creator>Lindi Kocher</dc:creator>
  <dc:description/>
  <cp:keywords/>
  <dc:language>en-US</dc:language>
  <cp:lastModifiedBy>Alicia Burge</cp:lastModifiedBy>
  <dcterms:modified xsi:type="dcterms:W3CDTF">2010-10-05T15:09:25Z</dcterms:modified>
  <cp:revision>138</cp:revision>
  <dc:subject/>
  <dc:title>Horticulture Scien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900221033</vt:lpwstr>
  </property>
</Properties>
</file>